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C6D0-01D2-4DC5-9000-1E1264DC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298-1167-4002-8D78-1545D2E5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B19-B507-4FB8-938D-0F7D518C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CDD-FA70-47BE-A4A4-27DC3680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7648-C9B9-4913-9445-3E04B3F9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774-DD03-4A80-BFD6-9FED248C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4AE-5A75-4C12-B0A2-1EEFB6FD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F4F-3496-4128-8605-FCEC3F65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95C0-C200-43F4-AFD5-F47B5C67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84E-518C-4A55-854A-1760D7FE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E71A-63E4-4CF9-9CC1-55D4ADD9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7271-5BA3-492E-AEEA-540E40C5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9CF3-D769-4D63-9001-58122318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C644-C6B0-4F57-AD1A-B2AE1AA9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008A-0B70-4BFA-B8B2-36802554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F871-5040-4A97-96E9-5B6B7399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0A63-73C3-416B-959F-C2695C00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25BD-CBC5-4F4F-AD87-3603F8A3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3E8B-80DA-4435-9E62-0473395C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5E3F-20DD-49C1-A084-F0A6B082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2B1D-1262-4056-84C2-E2051171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9793-45D6-40CC-B048-3444AB07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B47F-499F-4220-BDBF-5CFD00E3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7BF8-864C-4591-B475-A66FDEA4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BB7AB-C64E-429E-AF0A-EAD8B6D9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7A91E-6220-477B-BB75-164B9BDC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44784-C0BD-4208-92B9-F611A647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2A978-8331-4B74-B48B-941C876B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A37CE-3571-4BD8-ADD2-8E052100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7F5FB-991A-40B1-95CA-36BA5090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693E0-CEF8-4D00-9AD5-84058FB5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B53B3-3F57-47B0-8C31-1674F6E8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D5AF0-E637-4B53-B39C-E0E91082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0367C-41B2-4E03-9765-8264A5BE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3CF55-65B0-477F-A0E6-80002D92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EF44F-F76B-47FC-9A7F-F1D5BCB5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6B09F-A599-4764-9445-299D093A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EA1A8-93BB-4FCE-A3A3-1B0E61D9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5D966-EA67-4BED-813C-2B667155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F88DB-4216-43CD-ABDA-87849B4C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55BC2-22EE-49D5-BFC4-E1963B60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67D94-3BEB-4A49-ADB3-23B67C8C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E24EA-FB02-471D-AC13-C5800148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12F90-6F24-4AC4-BDC4-5B91A267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5DF0F-D249-404C-8838-A1D31AB7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0458F-D9AF-4BF4-A3D0-188243EA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7D858-BCD1-4329-8EC0-9AEE0F61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0181B-C16C-4AE2-9A06-FE1978B4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419040"/>
            <a:ext cx="5867280" cy="5942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0" y="411120"/>
            <a:ext cx="0" cy="5943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1553760" y="411120"/>
            <a:ext cx="3017880" cy="3017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0" y="411120"/>
            <a:ext cx="2879640" cy="3017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54120" y="3429000"/>
            <a:ext cx="3017880" cy="2925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4571640" y="3429000"/>
            <a:ext cx="2879640" cy="2925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3063960" y="411120"/>
            <a:ext cx="0" cy="1509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1600200" y="1920960"/>
            <a:ext cx="1463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5989680" y="411120"/>
            <a:ext cx="0" cy="1509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989680" y="4892760"/>
            <a:ext cx="14619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063960" y="1920960"/>
            <a:ext cx="2925720" cy="2925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3063600" y="1920960"/>
            <a:ext cx="2925720" cy="297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1554120" y="4892760"/>
            <a:ext cx="1463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5989680" y="1920960"/>
            <a:ext cx="1463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V="1">
            <a:off x="3063960" y="4846680"/>
            <a:ext cx="0" cy="1509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V="1">
            <a:off x="5989680" y="4846680"/>
            <a:ext cx="0" cy="1509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5943600"/>
            <a:ext cx="960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3B2A-A461-40F1-A13D-A53E28FC7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GailLovel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62E2-0289-4901-A77E-56BD6DC7D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GailLovel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D14B-027C-4B9E-BD8B-D09E5915D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DE59-F2FA-43CE-8D8F-285C2E1E6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 rot="8488200">
            <a:off x="1729800" y="110772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3211400">
            <a:off x="6084720" y="1063440"/>
            <a:ext cx="13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c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9056600">
            <a:off x="5986800" y="524628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667600">
            <a:off x="1786680" y="534168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2961360" y="830520"/>
            <a:ext cx="7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5119200" y="592200"/>
            <a:ext cx="77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84840" y="2138400"/>
            <a:ext cx="77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 Fi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5400000">
            <a:off x="5372280" y="5718600"/>
            <a:ext cx="7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205740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in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2922120" y="5716800"/>
            <a:ext cx="7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6629040" y="4461480"/>
            <a:ext cx="7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1645920" y="4507560"/>
            <a:ext cx="7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4160880" y="1325160"/>
            <a:ext cx="2332080" cy="11448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are the major 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4022640" y="4297320"/>
            <a:ext cx="2332080" cy="11448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the tit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54520" y="2057400"/>
            <a:ext cx="2514600" cy="13716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are the text featur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92360" y="2057400"/>
            <a:ext cx="2697120" cy="123516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ne fact &amp; one opinion from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4892760" y="3611160"/>
            <a:ext cx="2239920" cy="11890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re/ When does the article take plac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0800000">
            <a:off x="1874880" y="3473280"/>
            <a:ext cx="2332080" cy="11448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or what is the article ab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2652480" y="1371600"/>
            <a:ext cx="2332080" cy="11444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are the minor detail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2652480" y="4297320"/>
            <a:ext cx="2332080" cy="11444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uthor’s purpos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550200" y="456048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www.GailLovel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6006960"/>
            <a:ext cx="9604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otie Catcher or Fortune Teller – to fill-in on comput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3429000"/>
            <a:ext cx="5761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 rot="16200000">
            <a:off x="6550200" y="456048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www.GailLovel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6006960"/>
            <a:ext cx="9604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otie Catcher or Fortune Teller – to complete by han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to Make a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tune Teller or Cootie Catcher…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ing text into the template (slide 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le-click (click 3 times quickly) in each area and type you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wish, you can print the “empty” template (slide two) and have students handwrite or draw thei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laps (labeled A, B, C, and D) are the outermost choices… these are often color words – remember you can change this text to color if you will be printing in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tions (labeled 1 – 8) are the second choices and these are often numerals or number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tunes (labeled Fortune1 – Fortune8) are where you type your SHORT messages. (You can adjust the font size if you need to fit mor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Cootie Catcher Directions"/>
          <p:cNvPicPr/>
          <p:nvPr/>
        </p:nvPicPr>
        <p:blipFill>
          <a:blip r:embed="rId1"/>
          <a:srcRect l="68389" t="49046" r="7194" b="0"/>
          <a:stretch/>
        </p:blipFill>
        <p:spPr>
          <a:xfrm>
            <a:off x="274680" y="182520"/>
            <a:ext cx="114300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to Make a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tune Teller or Cootie Catcher…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lide one to enter in your options (see slides 3-5 for ex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your Fortune Tel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out the Fortune Teller along the outside line (6 or 8 inch squ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printed side up, fold the square in half horizontally and then vertically, open the fo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the square 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 each corner over so they meet in the middle, do not let them overl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e the square folded, and flip the square 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fold the corners into the center – make sure they do not overl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 the entire square in half and poke your thumbs and forefingers in under the fl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your fingers together so the Fortune Teller forms a peak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 ready to PL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Cootie Catcher Directions"/>
          <p:cNvPicPr/>
          <p:nvPr/>
        </p:nvPicPr>
        <p:blipFill>
          <a:blip r:embed="rId1"/>
          <a:srcRect l="68389" t="49046" r="7194" b="0"/>
          <a:stretch/>
        </p:blipFill>
        <p:spPr>
          <a:xfrm>
            <a:off x="228600" y="228600"/>
            <a:ext cx="11430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deas for Using “Catchers” for Learn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t an action where the fortunes are usually written and use it as a PE activity generator (children might select a flap and get an activity like “run in place” or “hop on one foot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Language Arts, use words and have students open and close it the number of syllables in the word or spell the word rather than using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math put simple math facts instead of numbers – so “5+3” could be on a flap, “6+1” on another flap and students open and close the “catcher” according to the solution to the math fact sel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reading and writing, students create the fortunes and must write them concisely to fit in the space allotted. Students must read aloud the fortunes for all to h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ny subject, 8 facts or factoids can be written in the place of fortunes, or questions with their answers can be written there as w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writing, students could have a different “catcher” for selecting a character (with a wide collection of characters, one under each flap), another for selecting a setting or a predicament and then write or draw the story using these characters, settings or predica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ed Resources about “Catchers”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books and websites)</a:t>
            </a:r>
            <a:br>
              <a:rPr sz="28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otie Catchers are also called: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“Fortune Tellers”, “Nose Pinchers”, “Salt Cellars” and “Chatterboxes” </a:t>
            </a:r>
            <a:br>
              <a:rPr sz="1600"/>
            </a:b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elated resources about "Cootie Catchers"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hur and The Cootie Catcher (a book by Marc Brown) (reading level third gr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otie Catcher Book, by Klutz (a collection of “catchers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perfecttime.com/Cootie.Directions.pdf (step-by-step from a piece of paper, includes a mention of history of this "flexagon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unorama.com/cooties.html (Why they are called "Cootie Catchers" is explained her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underland.ac.uk/~as0bgr/moscow.html (background, animated gifs and international versions - for adul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ady-made Online “Catchers” and Patter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y-made “Catchers” and Patter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ityofmesa.org/police/kids/pdf/be_alert_catcher.pdf a safety-themed “catcher” to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tammyyee.com/origamidragon.html (cool ready-to-print dragon patt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billybear4kids.com/holidays/halowen/CootieCatcher.html (Halloween themed “catcher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pbskids.org/arthur/print/cootiecatcher/index.html (Arthur-themed “catcher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thetoymaker.com/Toypages/16Cootiecatcher/16COOTIECATCHER.html (Valentine themed patt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lder students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paceplace.jpl.nasa.gov/en/kids/st6starfinder/st6starfinder.shtml (night sky and constellations in a "cootie catcher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yourpage.org/hanfortune.html (Hanukkah "fortune teller" with holiday-related cont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dev.sandiegozoo.org/kids/images/craft_cootie_catcher.pdf (conservation riddles on this “catcher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21:12:04Z</dcterms:created>
  <dc:creator>Gail Lovely</dc:creator>
  <dc:description/>
  <dc:language>en-US</dc:language>
  <cp:lastModifiedBy>critzius</cp:lastModifiedBy>
  <dcterms:modified xsi:type="dcterms:W3CDTF">2010-03-22T11:34:58Z</dcterms:modified>
  <cp:revision>22</cp:revision>
  <dc:subject/>
  <dc:title>fortune teller or cootie catcher</dc:title>
</cp:coreProperties>
</file>